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8C83-2C29-4C88-9431-ACEB16BF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3107-323D-44C3-9019-7D82648B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A91-F4CB-4FA4-9D98-DE473A5A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8667-B422-4761-8B08-4F3B7DA5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298F-AB74-4493-B3BA-70D75AFA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5B93-4265-4CB1-B909-E293F2FE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7F9B-82C2-4C9B-BA2B-428AFFBC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840D-D353-4023-9C2C-0126FCFE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6C17-88D0-4045-AA97-16703FC2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4B47-3C41-40C3-8DC8-B0F5CBFC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8823-813A-4FAD-A636-74FF5CD7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D4AF-48C4-484C-B1D3-60E3C8FC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E619-1CA6-49AE-89BA-6190D058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D548-D45C-41FA-9A69-F1CEE7AD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FC4E-8617-43AF-A0DB-6382ED8D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E624-C41D-4D2A-A2CA-34B822C3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4022-F55F-4279-979F-21C4F979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63148-0743-4EA5-9A73-55BDC8C6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2771E-53A6-431D-849A-99F48202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151BF-8ABC-4D52-B8E5-ACD364B0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641D5-2236-420E-83B0-AD68FA2C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E6B4A-04A8-4993-A9BE-2EC4C758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C76-C0BD-48C8-AC6C-7EBE66DD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27D40-CEBE-492B-8566-EB1B030F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48F85-AE0D-446B-8740-8A605E28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F5A79-4485-407C-92FB-BE3A39FE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F2887-0FE8-4EB7-BDDC-53E082D8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E85C4-87B7-4265-B191-72F2B07A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70B96-BC96-4F5B-928B-22C20FBB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22552-302F-421E-81DC-CF1E06AF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D45B-0278-4AF9-86D3-35457EB7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4AB0-4B0A-441F-A176-6A6ED101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EA79-D801-4C74-9FB3-2B1C55B8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A756-61B1-4FC3-A411-4A913C68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7989-4D32-4F6B-A5B3-34FFE057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D421-6DB7-4E95-899B-C34EB070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tled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9C2F-63BD-4B26-9BCF-3E42428947AB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6" descr="roodschild_los.jpg"/>
          <p:cNvPicPr/>
          <p:nvPr/>
        </p:nvPicPr>
        <p:blipFill>
          <a:blip r:embed="rId2"/>
          <a:srcRect l="0" t="26622" r="0" b="38371"/>
          <a:stretch/>
        </p:blipFill>
        <p:spPr>
          <a:xfrm rot="8788800">
            <a:off x="-1126800" y="-271440"/>
            <a:ext cx="3121200" cy="1771560"/>
          </a:xfrm>
          <a:prstGeom prst="rect">
            <a:avLst/>
          </a:prstGeom>
          <a:ln w="0">
            <a:noFill/>
          </a:ln>
        </p:spPr>
      </p:pic>
      <p:pic>
        <p:nvPicPr>
          <p:cNvPr id="42" name="Afbeelding 9" descr="roodschild_los.jpg"/>
          <p:cNvPicPr/>
          <p:nvPr/>
        </p:nvPicPr>
        <p:blipFill>
          <a:blip r:embed="rId3"/>
          <a:srcRect l="0" t="26622" r="0" b="38371"/>
          <a:stretch/>
        </p:blipFill>
        <p:spPr>
          <a:xfrm rot="20985600">
            <a:off x="-1531440" y="3703680"/>
            <a:ext cx="11396520" cy="4967280"/>
          </a:xfrm>
          <a:prstGeom prst="rect">
            <a:avLst/>
          </a:prstGeom>
          <a:ln w="0">
            <a:noFill/>
          </a:ln>
        </p:spPr>
      </p:pic>
      <p:pic>
        <p:nvPicPr>
          <p:cNvPr id="43" name="Afbeelding 10" descr="hartenbeeldje_los (Large).png"/>
          <p:cNvPicPr/>
          <p:nvPr/>
        </p:nvPicPr>
        <p:blipFill>
          <a:blip r:embed="rId4"/>
          <a:stretch/>
        </p:blipFill>
        <p:spPr>
          <a:xfrm>
            <a:off x="7358040" y="4714920"/>
            <a:ext cx="1434960" cy="1785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44" name="Afbeelding 9" descr="HGJB-logo_support_wit.png"/>
          <p:cNvPicPr/>
          <p:nvPr/>
        </p:nvPicPr>
        <p:blipFill>
          <a:blip r:embed="rId5"/>
          <a:stretch/>
        </p:blipFill>
        <p:spPr>
          <a:xfrm>
            <a:off x="214200" y="142920"/>
            <a:ext cx="830520" cy="619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tled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96EB-4E64-4044-837E-7A13806A7118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Afbeelding 9" descr="roodschild_los.jpg"/>
          <p:cNvPicPr/>
          <p:nvPr/>
        </p:nvPicPr>
        <p:blipFill>
          <a:blip r:embed="rId2"/>
          <a:srcRect l="0" t="26622" r="0" b="38371"/>
          <a:stretch/>
        </p:blipFill>
        <p:spPr>
          <a:xfrm rot="20985600">
            <a:off x="-1138320" y="3725640"/>
            <a:ext cx="10985760" cy="4786200"/>
          </a:xfrm>
          <a:prstGeom prst="rect">
            <a:avLst/>
          </a:prstGeom>
          <a:ln w="0">
            <a:noFill/>
          </a:ln>
        </p:spPr>
      </p:pic>
      <p:pic>
        <p:nvPicPr>
          <p:cNvPr id="87" name="Afbeelding 10" descr="hartenbeeldje_los (Large).png"/>
          <p:cNvPicPr/>
          <p:nvPr/>
        </p:nvPicPr>
        <p:blipFill>
          <a:blip r:embed="rId3"/>
          <a:stretch/>
        </p:blipFill>
        <p:spPr>
          <a:xfrm>
            <a:off x="7000920" y="4357800"/>
            <a:ext cx="1754280" cy="2182680"/>
          </a:xfrm>
          <a:prstGeom prst="rect">
            <a:avLst/>
          </a:prstGeom>
          <a:ln w="0">
            <a:noFill/>
          </a:ln>
        </p:spPr>
      </p:pic>
      <p:sp>
        <p:nvSpPr>
          <p:cNvPr id="88" name="Tekstvak 8"/>
          <p:cNvSpPr/>
          <p:nvPr/>
        </p:nvSpPr>
        <p:spPr>
          <a:xfrm>
            <a:off x="428760" y="595800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tledDemi"/>
              </a:rPr>
              <a:t>Avon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tled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CAA0-157C-4715-9F4E-B048AE77BF70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424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6000" spc="-1" strike="noStrike">
              <a:solidFill>
                <a:srgbClr val="000000"/>
              </a:solidFill>
              <a:latin typeface="AntitledDemi"/>
            </a:endParaRPr>
          </a:p>
        </p:txBody>
      </p:sp>
      <p:pic>
        <p:nvPicPr>
          <p:cNvPr id="131" name="Afbeelding 9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20985600">
            <a:off x="-1436760" y="388800"/>
            <a:ext cx="17388000" cy="7575840"/>
          </a:xfrm>
          <a:prstGeom prst="rect">
            <a:avLst/>
          </a:prstGeom>
          <a:ln w="0">
            <a:noFill/>
          </a:ln>
        </p:spPr>
      </p:pic>
      <p:pic>
        <p:nvPicPr>
          <p:cNvPr id="132" name="Afbeelding 10" descr="hartenbeeldje_los (Large).png"/>
          <p:cNvPicPr/>
          <p:nvPr/>
        </p:nvPicPr>
        <p:blipFill>
          <a:blip r:embed="rId2"/>
          <a:stretch/>
        </p:blipFill>
        <p:spPr>
          <a:xfrm>
            <a:off x="857160" y="-1285920"/>
            <a:ext cx="6143760" cy="7647120"/>
          </a:xfrm>
          <a:prstGeom prst="rect">
            <a:avLst/>
          </a:prstGeom>
          <a:ln w="0">
            <a:noFill/>
          </a:ln>
        </p:spPr>
      </p:pic>
      <p:sp>
        <p:nvSpPr>
          <p:cNvPr id="133" name="Tekstvak 8"/>
          <p:cNvSpPr/>
          <p:nvPr/>
        </p:nvSpPr>
        <p:spPr>
          <a:xfrm>
            <a:off x="395280" y="5084640"/>
            <a:ext cx="86407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Afbeelding 5" descr="Logo HGJB transparant.png"/>
          <p:cNvPicPr/>
          <p:nvPr/>
        </p:nvPicPr>
        <p:blipFill>
          <a:blip r:embed="rId3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AntitledDemi"/>
              </a:rPr>
              <a:t>En nu de praktijk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99680" y="15717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Zonde verstoort het gel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och is er h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Verschillen zijn mo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Meer dan verlief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Contract versus ver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Waarom ben je getrouw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4040930000[1]"/>
          <p:cNvPicPr/>
          <p:nvPr/>
        </p:nvPicPr>
        <p:blipFill>
          <a:blip r:embed="rId1"/>
          <a:stretch/>
        </p:blipFill>
        <p:spPr>
          <a:xfrm>
            <a:off x="6858000" y="857160"/>
            <a:ext cx="1079640" cy="1447920"/>
          </a:xfrm>
          <a:prstGeom prst="rect">
            <a:avLst/>
          </a:prstGeom>
          <a:ln w="0">
            <a:noFill/>
          </a:ln>
        </p:spPr>
      </p:pic>
      <p:sp>
        <p:nvSpPr>
          <p:cNvPr id="169" name="Tekstvak 4"/>
          <p:cNvSpPr/>
          <p:nvPr/>
        </p:nvSpPr>
        <p:spPr>
          <a:xfrm>
            <a:off x="428760" y="595800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tledDemi"/>
              </a:rPr>
              <a:t>Avon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Afbeelding 5" descr="Logo HGJB transparant.png"/>
          <p:cNvPicPr/>
          <p:nvPr/>
        </p:nvPicPr>
        <p:blipFill>
          <a:blip r:embed="rId2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AntitledDemi"/>
              </a:rPr>
              <a:t>Jij en je partner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99680" y="15717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pdrach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kstvak 3"/>
          <p:cNvSpPr/>
          <p:nvPr/>
        </p:nvSpPr>
        <p:spPr>
          <a:xfrm>
            <a:off x="428760" y="595800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tledDemi"/>
              </a:rPr>
              <a:t>Avon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Afbeelding 4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AntitledDemi"/>
              </a:rPr>
              <a:t>Afronding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557000"/>
            <a:ext cx="7543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uisopd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ntmo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kstvak 4"/>
          <p:cNvSpPr/>
          <p:nvPr/>
        </p:nvSpPr>
        <p:spPr>
          <a:xfrm>
            <a:off x="428760" y="595800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tledDemi"/>
              </a:rPr>
              <a:t>Avon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1424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6000" spc="-1" strike="noStrike">
              <a:solidFill>
                <a:srgbClr val="000000"/>
              </a:solidFill>
              <a:latin typeface="AntitledDemi"/>
            </a:endParaRPr>
          </a:p>
        </p:txBody>
      </p:sp>
      <p:pic>
        <p:nvPicPr>
          <p:cNvPr id="180" name="Afbeelding 9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20985600">
            <a:off x="-1436760" y="388800"/>
            <a:ext cx="17388000" cy="7575840"/>
          </a:xfrm>
          <a:prstGeom prst="rect">
            <a:avLst/>
          </a:prstGeom>
          <a:ln w="0">
            <a:noFill/>
          </a:ln>
        </p:spPr>
      </p:pic>
      <p:pic>
        <p:nvPicPr>
          <p:cNvPr id="181" name="Afbeelding 10" descr="hartenbeeldje_los (Large).png"/>
          <p:cNvPicPr/>
          <p:nvPr/>
        </p:nvPicPr>
        <p:blipFill>
          <a:blip r:embed="rId2"/>
          <a:stretch/>
        </p:blipFill>
        <p:spPr>
          <a:xfrm>
            <a:off x="857160" y="-1285920"/>
            <a:ext cx="6143760" cy="7647120"/>
          </a:xfrm>
          <a:prstGeom prst="rect">
            <a:avLst/>
          </a:prstGeom>
          <a:ln w="0">
            <a:noFill/>
          </a:ln>
        </p:spPr>
      </p:pic>
      <p:sp>
        <p:nvSpPr>
          <p:cNvPr id="182" name="Tekstvak 8"/>
          <p:cNvSpPr/>
          <p:nvPr/>
        </p:nvSpPr>
        <p:spPr>
          <a:xfrm>
            <a:off x="395280" y="5084640"/>
            <a:ext cx="86407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Afbeelding 5" descr="Logo HGJB transparant.png"/>
          <p:cNvPicPr/>
          <p:nvPr/>
        </p:nvPicPr>
        <p:blipFill>
          <a:blip r:embed="rId3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81388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62626"/>
                </a:solidFill>
                <a:latin typeface="AntitledDemi"/>
              </a:rPr>
              <a:t>Hart voor je huwelijk – wat?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42960" y="1428840"/>
            <a:ext cx="8250120" cy="40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Waar gaan we voor? </a:t>
            </a:r>
            <a:r>
              <a:rPr b="0" lang="nl-NL" sz="2000" spc="-1" strike="noStrike">
                <a:solidFill>
                  <a:srgbClr val="262626"/>
                </a:solidFill>
                <a:latin typeface="Arial"/>
              </a:rPr>
              <a:t>(doel curs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Menukaart  </a:t>
            </a:r>
            <a:r>
              <a:rPr b="0" lang="nl-NL" sz="2000" spc="-1" strike="noStrike">
                <a:solidFill>
                  <a:srgbClr val="262626"/>
                </a:solidFill>
                <a:latin typeface="Arial"/>
              </a:rPr>
              <a:t>(onderwerpen curs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Arial"/>
              </a:rPr>
              <a:t>Terug naar de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Arial"/>
              </a:rPr>
              <a:t>Communicatie in je re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Arial"/>
              </a:rPr>
              <a:t>Groeien in je re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Arial"/>
              </a:rPr>
              <a:t>Omgaan met verschi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Arial"/>
              </a:rPr>
              <a:t>Samen inti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Arial"/>
              </a:rPr>
              <a:t>Samen gel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Afbeelding 3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81388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62626"/>
                </a:solidFill>
                <a:latin typeface="AntitledDemi"/>
              </a:rPr>
              <a:t>Hart voor je huwelijk – hoe?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642960" y="1428840"/>
            <a:ext cx="8250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Inspiratie </a:t>
            </a:r>
            <a:r>
              <a:rPr b="0" lang="nl-NL" sz="2000" spc="-1" strike="noStrike">
                <a:solidFill>
                  <a:srgbClr val="262626"/>
                </a:solidFill>
                <a:latin typeface="Arial"/>
              </a:rPr>
              <a:t>(met elkaar de Bijbel op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Serveren in porties </a:t>
            </a:r>
            <a:r>
              <a:rPr b="0" lang="nl-NL" sz="2000" spc="-1" strike="noStrike">
                <a:solidFill>
                  <a:srgbClr val="262626"/>
                </a:solidFill>
                <a:latin typeface="Arial"/>
              </a:rPr>
              <a:t>(aanreiken onderwerpen + instruct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Tips van de zaak </a:t>
            </a:r>
            <a:r>
              <a:rPr b="0" lang="nl-NL" sz="2000" spc="-1" strike="noStrike">
                <a:solidFill>
                  <a:srgbClr val="262626"/>
                </a:solidFill>
                <a:latin typeface="Arial"/>
              </a:rPr>
              <a:t>(persoonlijke inbreng toerus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Samen eten</a:t>
            </a:r>
            <a:r>
              <a:rPr b="0" lang="nl-NL" sz="2000" spc="-1" strike="noStrike">
                <a:solidFill>
                  <a:srgbClr val="262626"/>
                </a:solidFill>
                <a:latin typeface="Arial"/>
              </a:rPr>
              <a:t> (als echtpaar samen aan de s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Beschikbaar en betrouw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fbeelding 3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296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262626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143080" y="2857680"/>
            <a:ext cx="5214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5e2206"/>
                </a:solidFill>
                <a:latin typeface="AntitledDemi"/>
              </a:rPr>
              <a:t>Avond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5e2206"/>
                </a:solidFill>
                <a:latin typeface="AntitledDemi"/>
              </a:rPr>
              <a:t>Terug naar de ba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Afbeelding 6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8788800">
            <a:off x="-1126800" y="-271440"/>
            <a:ext cx="3121200" cy="1771560"/>
          </a:xfrm>
          <a:prstGeom prst="rect">
            <a:avLst/>
          </a:prstGeom>
          <a:ln w="0">
            <a:noFill/>
          </a:ln>
        </p:spPr>
      </p:pic>
      <p:pic>
        <p:nvPicPr>
          <p:cNvPr id="144" name="Afbeelding 5" descr="Logo HGJB transparant.png"/>
          <p:cNvPicPr/>
          <p:nvPr/>
        </p:nvPicPr>
        <p:blipFill>
          <a:blip r:embed="rId2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81388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62626"/>
                </a:solidFill>
                <a:latin typeface="AntitledDemi"/>
              </a:rPr>
              <a:t>Terug naar de basis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42960" y="1428840"/>
            <a:ext cx="6400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Het huwelijk, wat is h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62626"/>
                </a:solidFill>
                <a:latin typeface="Arial"/>
              </a:rPr>
              <a:t>Trouwtek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62626"/>
                </a:solidFill>
                <a:latin typeface="Arial"/>
              </a:rPr>
              <a:t>Huwelijk komt van G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62626"/>
                </a:solidFill>
                <a:latin typeface="Arial"/>
              </a:rPr>
              <a:t>Huwelijk, een ver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Jullie huwelijk, hoe gaat he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En nu de prakt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Jij en je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AntitledDemi"/>
              </a:rPr>
              <a:t>Het huwelijk, wat is het?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71320" y="142884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62626"/>
                </a:solidFill>
                <a:latin typeface="Arial"/>
              </a:rPr>
              <a:t>Trouwtek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Welke tek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Wat sprak / spreekt je a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kstvak 3"/>
          <p:cNvSpPr/>
          <p:nvPr/>
        </p:nvSpPr>
        <p:spPr>
          <a:xfrm>
            <a:off x="428760" y="595800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tledDemi"/>
              </a:rPr>
              <a:t>Avon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Afbeelding 4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AntitledDemi"/>
              </a:rPr>
              <a:t>Het huwelijk, wat is het? 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99680" y="15717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Arial"/>
              </a:rPr>
              <a:t>Het huwelijk komt van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Van bov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Verl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Aank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ot één vlees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kstvak 3"/>
          <p:cNvSpPr/>
          <p:nvPr/>
        </p:nvSpPr>
        <p:spPr>
          <a:xfrm>
            <a:off x="428760" y="595800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tledDemi"/>
              </a:rPr>
              <a:t>Avon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Afbeelding 4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AntitledDemi"/>
              </a:rPr>
              <a:t>Het huwelijk, wat is het?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99680" y="15717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Arial"/>
              </a:rPr>
              <a:t>Het huwelijk, een ver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God en Zijn volk als voorb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iefde is een beslu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hristus en Zijn geme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en drievoudig sn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kstvak 3"/>
          <p:cNvSpPr/>
          <p:nvPr/>
        </p:nvSpPr>
        <p:spPr>
          <a:xfrm>
            <a:off x="428760" y="595800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tledDemi"/>
              </a:rPr>
              <a:t>Avon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Afbeelding 4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AntitledDemi"/>
              </a:rPr>
              <a:t>Het huwelijk, hoe gaat het?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28400" y="157140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amen de balans op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pdrach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MCj04398310000[1]"/>
          <p:cNvPicPr/>
          <p:nvPr/>
        </p:nvPicPr>
        <p:blipFill>
          <a:blip r:embed="rId1"/>
          <a:stretch/>
        </p:blipFill>
        <p:spPr>
          <a:xfrm>
            <a:off x="6997680" y="3429000"/>
            <a:ext cx="1685880" cy="16858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3851280" y="2421000"/>
            <a:ext cx="252108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Onvoldoe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Voldoende</a:t>
            </a:r>
            <a:r>
              <a:rPr b="0" lang="nl-N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 G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kstvak 5"/>
          <p:cNvSpPr/>
          <p:nvPr/>
        </p:nvSpPr>
        <p:spPr>
          <a:xfrm>
            <a:off x="428760" y="595800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tledDemi"/>
              </a:rPr>
              <a:t>Avon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Afbeelding 6" descr="Logo HGJB transparant.png"/>
          <p:cNvPicPr/>
          <p:nvPr/>
        </p:nvPicPr>
        <p:blipFill>
          <a:blip r:embed="rId2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8:58:09Z</dcterms:created>
  <dc:creator>njansen</dc:creator>
  <dc:description/>
  <dc:language>en-US</dc:language>
  <cp:lastModifiedBy>Kees</cp:lastModifiedBy>
  <cp:lastPrinted>2012-08-27T19:27:52Z</cp:lastPrinted>
  <dcterms:modified xsi:type="dcterms:W3CDTF">2015-01-06T11:41:24Z</dcterms:modified>
  <cp:revision>55</cp:revision>
  <dc:subject/>
  <dc:title>Hart voor je huwelijk</dc:title>
</cp:coreProperties>
</file>